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7FE-94FA-42B9-A21D-2FBBED50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538-EA98-42F1-82C9-4BD3D6A1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D75-02F2-4FF6-9739-02FA7184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D4C-B994-422C-B7C5-25CDDBA4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0D8-2C77-4EA1-BEF5-38456B2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BC8-E32F-4BFB-937B-79A22FC4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2C8-C280-4F07-910A-D073008D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596-0E36-41E5-A384-BC01C42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3D9-ED11-418A-AF4B-3A7E363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6B7-6169-4654-8855-80FA5D6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797-A4AB-4ADA-A98D-11E9C99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C65-FDDD-429E-AD10-BA1E0DE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EBBC-2DCD-46AA-A333-AD24D243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-31680"/>
            <a:ext cx="11125080" cy="728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Papyrus"/>
              </a:rPr>
              <a:t>Palestinia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gency FB"/>
              </a:rPr>
              <a:t>Patrick Gehman, Patrick Wynne, Ian Kim, Roshmi Patel, Brenda Michelson</a:t>
            </a:r>
            <a:r>
              <a:rPr b="0" lang="en-US" sz="3200" spc="-1" strike="noStrike">
                <a:solidFill>
                  <a:srgbClr val="333399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ate Palestinian demand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demands; separate state, with the same borders as 1967, before the 6 day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control of east Jerusa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s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for Palestinian refugees to return to their home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control of waterways in Pal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0972800" cy="689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ists (Hamas lead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Brush Script MT"/>
              </a:rPr>
              <a:t>We vow to continue our terrorist campaign until our demands ar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Brush Script MT"/>
              </a:rPr>
              <a:t>We threaten to destroy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38680" y="4451400"/>
            <a:ext cx="3505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rch and April of 2002, Israeli soldiers attempted to destroy a lot of our government, including record equipment, buildings, electricity supplies, roads, and muc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32:20Z</dcterms:created>
  <dc:creator>NPSD</dc:creator>
  <dc:description/>
  <dc:language>en-US</dc:language>
  <cp:lastModifiedBy>NPSD</cp:lastModifiedBy>
  <dcterms:modified xsi:type="dcterms:W3CDTF">2010-03-30T14:55:30Z</dcterms:modified>
  <cp:revision>2</cp:revision>
  <dc:subject/>
  <dc:title>Palestinian Point of View</dc:title>
</cp:coreProperties>
</file>